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A37-75E0-450F-AFFF-B4949450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D50-A0F1-4345-897E-FDD641B4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499-AB10-479E-BD1D-C0BF7ADB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7D6-F6BD-4958-8A4D-5024E0F6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D2CA-4324-4D7C-AA32-BFE692CE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921F-D881-4076-9F62-00089A0D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0332-3D63-4B4A-936A-1936A181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A0E3-D010-4BB8-8B54-EB6D8738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C6EB-1B9D-44A5-87AC-38998231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8B54-090E-429C-813F-977932A6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3801-C658-4332-907A-EE56A5C0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AEB-62BD-4B8E-A98A-9836326C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24FF-E778-4760-8555-5708B929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2F0F-4573-4D2A-B70B-FEEA2DB9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AFED-AC38-446F-BF81-A2FEE59A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286D-98E9-4F08-B567-22592510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86FC-0985-48A6-8CB9-84FFB2DC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896A-B458-4278-9105-CE64BFB8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6F12-A625-4C65-9328-8F55E5E1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F6A-1D7C-4150-AD8E-37DDD3FF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9454-9768-4986-AAC4-C0526629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73B-3866-4423-A137-BB3D5A76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1BC-A224-43DB-8C63-4FF8A91C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23E-8943-4176-A84F-6568FE86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12D6-B58A-4535-9349-2AA543CB0E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6C91-70C4-42E2-A647-4C75C1291C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tter– Properties and Cha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perties of B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you ever accidentally eaten soa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it taste li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s have a bitter taste and are slipp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mical Proper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 of matter that allows it to change to a different type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s when you strike a mat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s when you leave an apple on the coun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easily a chemical reacts with another chem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rusts easily due to its high reactivity with oxyg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ld and silver have low reactivity and therefore are ideal for jewel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35080206"/>
          <p:cNvPicPr/>
          <p:nvPr/>
        </p:nvPicPr>
        <p:blipFill>
          <a:blip r:embed="rId4"/>
          <a:stretch/>
        </p:blipFill>
        <p:spPr>
          <a:xfrm>
            <a:off x="4734000" y="1955880"/>
            <a:ext cx="38671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mical Properties of Ac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 with/corrode 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arm body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cu_6"/>
          <p:cNvPicPr/>
          <p:nvPr/>
        </p:nvPicPr>
        <p:blipFill>
          <a:blip r:embed="rId3"/>
          <a:stretch/>
        </p:blipFill>
        <p:spPr>
          <a:xfrm>
            <a:off x="762120" y="2295360"/>
            <a:ext cx="38098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mical Properties of B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damage living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nhaled can cause nose to bl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ls slippery to the touch because it reacts with proteins in th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f04-05"/>
          <p:cNvPicPr/>
          <p:nvPr/>
        </p:nvPicPr>
        <p:blipFill>
          <a:blip r:embed="rId4"/>
          <a:stretch/>
        </p:blipFill>
        <p:spPr>
          <a:xfrm>
            <a:off x="4648320" y="2570040"/>
            <a:ext cx="403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s made of a metal and non-metal that is a result of an acid-bas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 Salt (sodium chloride) is made from a reaction of Hydrochloric acid and Sodium Hydr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ld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Shutter-Fo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6 shutters on each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five the first shutter cl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el that shutter “ACIDS” on the left and “BASES” on the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 down Table 2 on page 141 in your fold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change in shape, size, form, or state where the identity of matter remains the s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s4_ice_melt2"/>
          <p:cNvPicPr/>
          <p:nvPr/>
        </p:nvPicPr>
        <p:blipFill>
          <a:blip r:embed="rId2"/>
          <a:stretch/>
        </p:blipFill>
        <p:spPr>
          <a:xfrm>
            <a:off x="5238720" y="243684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mical Ch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when one type of matter changes into another kind of matter with new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Photosynthesis, rust, silver tarnish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FG08_04-04UN"/>
          <p:cNvPicPr/>
          <p:nvPr/>
        </p:nvPicPr>
        <p:blipFill>
          <a:blip r:embed="rId3"/>
          <a:stretch/>
        </p:blipFill>
        <p:spPr>
          <a:xfrm>
            <a:off x="649440" y="1600200"/>
            <a:ext cx="3654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gns of a chemical ch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 bub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ble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pitate- a solid that forms as a result of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ory La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cience team will be given a ping-pong ball and a golf 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write down their similarities and dif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Since both balls are made of plastic, will both balls float in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: If…then…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ges in N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weath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ible for most of the shape of Earth’s su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vity, plants, animals, and earthquakes all contribute to physical weath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weath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ion of stalact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id 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 Scale 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s have a pH ranging from 0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s have a pH ranging from 7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, make a poster using what you know about the pH scale. Be sure to label acids, bases, and neutral. Give examples of several known pH rea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y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of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 dependent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 independent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v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aracteristic of matter than can be observed without changing the identity of the ma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Examp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lting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iling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zing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s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mount of mass in a given 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lf ball is more dense than a ping-pong ball so the golf ball sinks in water and the ping-pong ball flo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ity = mass/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of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matter is in solid, liquid, gas, or plasma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50011_1"/>
          <p:cNvPicPr/>
          <p:nvPr/>
        </p:nvPicPr>
        <p:blipFill>
          <a:blip r:embed="rId2"/>
          <a:stretch/>
        </p:blipFill>
        <p:spPr>
          <a:xfrm>
            <a:off x="4876920" y="2409840"/>
            <a:ext cx="3733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perties related to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ze-dependent properties- change with the size of a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 and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ze-Independent properties- do not change with the change in size of a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 Sc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is the measure of Hydronium Ions present in a substance…sounds more complicated than it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is measured on a scale of 1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is extremely acidic and 14 is extremely ba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is 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nteger is an increase of 10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perties of Ac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of when you hear the word ACI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s are in some foods we eat and others can severely harm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time you eat citrus you eat acid (ascorbic ac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aste does a lemon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0:20:00Z</dcterms:created>
  <dc:creator>Adam's Homepage</dc:creator>
  <dc:description/>
  <dc:language>en-US</dc:language>
  <cp:lastModifiedBy> </cp:lastModifiedBy>
  <dcterms:modified xsi:type="dcterms:W3CDTF">2011-10-25T12:28:56Z</dcterms:modified>
  <cp:revision>4</cp:revision>
  <dc:subject/>
  <dc:title>Chapter 5</dc:title>
</cp:coreProperties>
</file>